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E1A9-F2FA-49DF-907B-82CB023C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7C06-1BB1-4809-9A99-309F9F62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02B0-A8FA-4CED-8CB4-18C21EC7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27B-A76D-447D-A276-B3E52028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9372-515A-47E6-9F99-867DCD82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29EB-1969-44C7-A7A6-5C0EE5D8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ECA2-AE14-46B8-9524-17AEA7DE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8628-217B-45A4-A296-7D5C749A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496C1-8330-4D66-8BFA-B32DD66A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62A1-A323-4F49-99AC-D333E09B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2D71-A0D7-483B-935C-5D856085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9FD9-6648-4ECC-BFB5-3CC4336C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055F-2DF3-443A-9C72-6E065795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7D73-AD78-4C62-9900-D47B33A1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530A-C876-4D83-9268-0E28ACD3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024A-9237-4E7A-809F-C78812ED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88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7520" y="129492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24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88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7520" y="4041360"/>
            <a:ext cx="287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6B08-AA15-4B67-B82A-D8ED1C85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208-3953-4838-8DA7-95DB7DE0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DBF-F969-4E42-A365-3EC03947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B18-4EE2-4153-AC9F-762F4EC4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6DE-9B8B-4E15-AB2A-A3AE04AE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AE1-9937-4D11-9496-B54B7F24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6640" y="404136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3B9-4EED-4ED7-9D4D-6B29C2F5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6640" y="1294920"/>
            <a:ext cx="4350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041360"/>
            <a:ext cx="8915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3EA-6322-4BDA-BEFB-50B6A53A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48B7-A68E-42DE-A8DD-03DB28F30D87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1CB5-434B-41D4-AC56-8821D26BDBC1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1932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br>
              <a:rPr sz="5400"/>
            </a:b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360" y="37335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age 102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vancemos 3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-car (c to qu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usca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busque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busqu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busque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-zar (z to c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ruza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cruce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cruc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cruce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ace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haga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hag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haga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a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de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dé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de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vaya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vay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vaya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e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sea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sea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sea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580920"/>
            <a:ext cx="8915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6000" spc="-1" strike="noStrike">
              <a:solidFill>
                <a:srgbClr val="dfd293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There are two ways to suggest that others do some activity with you </a:t>
            </a: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(Let´s…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You can use the construction </a:t>
            </a: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Vamos a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 + infinitive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d3a219"/>
                </a:solidFill>
                <a:latin typeface="Tahoma"/>
              </a:rPr>
              <a:t>Vamos a hacer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 las paces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Let´s make up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You can also use a command with a nosotros form.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To form the nosotros command,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take the </a:t>
            </a:r>
            <a:r>
              <a:rPr b="1" lang="es-ES" sz="3600" spc="-1" strike="noStrike">
                <a:solidFill>
                  <a:srgbClr val="ffcc00"/>
                </a:solidFill>
                <a:latin typeface="Tahoma"/>
              </a:rPr>
              <a:t>“Yo” 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form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remove the </a:t>
            </a:r>
            <a:r>
              <a:rPr b="1" lang="es-ES" sz="3600" spc="-1" strike="noStrike">
                <a:solidFill>
                  <a:srgbClr val="ffcc00"/>
                </a:solidFill>
                <a:latin typeface="Tahoma"/>
              </a:rPr>
              <a:t>“o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lang="es-ES" sz="3600" spc="-1" strike="noStrike">
                <a:solidFill>
                  <a:srgbClr val="ffcc00"/>
                </a:solidFill>
                <a:latin typeface="Tahoma"/>
              </a:rPr>
              <a:t>–emos 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(for an –ar verb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lang="es-ES" sz="3600" spc="-1" strike="noStrike">
                <a:solidFill>
                  <a:srgbClr val="ffcc00"/>
                </a:solidFill>
                <a:latin typeface="Tahoma"/>
              </a:rPr>
              <a:t>–amos </a:t>
            </a:r>
            <a:r>
              <a:rPr b="1" lang="es-ES" sz="3600" spc="-1" strike="noStrike">
                <a:solidFill>
                  <a:srgbClr val="ffffff"/>
                </a:solidFill>
                <a:latin typeface="Tahoma"/>
              </a:rPr>
              <a:t>(for an –er/-ir verb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Resolvam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el conflicto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d3a219"/>
                </a:solidFill>
                <a:latin typeface="Tahoma"/>
              </a:rPr>
              <a:t>Let´s resolve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 the conflict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d3a219"/>
                </a:solidFill>
                <a:latin typeface="Tahoma"/>
              </a:rPr>
              <a:t>No reaccionemos</a:t>
            </a: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 tan rápido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d3a219"/>
                </a:solidFill>
                <a:latin typeface="Tahoma"/>
              </a:rPr>
              <a:t>Let´s not react</a:t>
            </a: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 so quickly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40384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Remember that stem-changing verbs whose infinitive ends in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–i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have a stem change of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e&gt;i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, or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o&gt;u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in the nosotros for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Pida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perdón por el malentendido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ask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forgiveness for the misunderstanding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 durma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l aire libr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not sleep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outdoor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Verbs whose infinitive ends in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–car, -gar, and –zar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have a spelling change in the 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nosotr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form of the present subjunctive, and consequently of the nosotros comm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No critique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nuestros padre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not criticize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our parent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d3a219"/>
                </a:solidFill>
                <a:latin typeface="Tahoma"/>
              </a:rPr>
              <a:t>Empecemos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a pensar un poco en ello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d3a219"/>
                </a:solidFill>
                <a:latin typeface="Tahoma"/>
              </a:rPr>
              <a:t>Let´s begin</a:t>
            </a: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 to think a little about them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o say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let’s go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vamos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o say 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let’s not go,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e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c000"/>
                </a:solidFill>
                <a:latin typeface="Tahoma"/>
              </a:rPr>
              <a:t>no vayamo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293"/>
                </a:solidFill>
                <a:latin typeface="Impact"/>
              </a:rPr>
              <a:t>Nosotros Commands</a:t>
            </a:r>
            <a:endParaRPr b="0" lang="en-US" sz="40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on’t forget verbs that end in 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–g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like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dirigi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“g”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goes to </a:t>
            </a: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“j”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1" i="1" lang="en-US" sz="4000" spc="-1" strike="noStrike">
                <a:solidFill>
                  <a:srgbClr val="ffc000"/>
                </a:solidFill>
                <a:latin typeface="Tahoma"/>
              </a:rPr>
              <a:t>yo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form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et’s direct the play!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¡</a:t>
            </a:r>
            <a:r>
              <a:rPr b="1" i="1" lang="en-US" sz="4000" spc="-1" strike="noStrike">
                <a:solidFill>
                  <a:srgbClr val="ffc000"/>
                </a:solidFill>
                <a:latin typeface="Tahoma"/>
              </a:rPr>
              <a:t>Dirijimos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la obra de teatro!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Straight Arrow Connector 4"/>
          <p:cNvCxnSpPr/>
          <p:nvPr/>
        </p:nvCxnSpPr>
        <p:spPr>
          <a:xfrm flipH="1" flipV="1">
            <a:off x="1904760" y="5486040"/>
            <a:ext cx="762480" cy="9914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p:transition spd="med">
    <p:fade thruBlk="true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o give an affirmative or negative command in th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Ud. or Uds.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form, use the present-tens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yo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form as the stem just as you did for negativ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tú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commands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4"/>
          <p:cNvSpPr/>
          <p:nvPr/>
        </p:nvSpPr>
        <p:spPr>
          <a:xfrm>
            <a:off x="3886200" y="6019920"/>
            <a:ext cx="4419720" cy="0"/>
          </a:xfrm>
          <a:prstGeom prst="line">
            <a:avLst/>
          </a:prstGeom>
          <a:ln cap="sq" w="76320">
            <a:solidFill>
              <a:srgbClr val="ffff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e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en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ar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verbs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rtar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rto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eñor, </a:t>
            </a:r>
            <a:r>
              <a:rPr b="1" lang="en-US" sz="4800" spc="-1" strike="noStrike">
                <a:solidFill>
                  <a:srgbClr val="be7960"/>
                </a:solidFill>
                <a:latin typeface="Tahoma"/>
              </a:rPr>
              <a:t>corte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las chuletas de cerdo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e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en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-ar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verbs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robar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Pruebo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Señores, </a:t>
            </a:r>
            <a:r>
              <a:rPr b="1" lang="en-US" sz="4800" spc="-1" strike="noStrike">
                <a:solidFill>
                  <a:srgbClr val="be7960"/>
                </a:solidFill>
                <a:latin typeface="Tahoma"/>
              </a:rPr>
              <a:t>prueben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la carne asada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Affirmative and negativ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Ud.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Uds.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commands have the same spelling changes and irregular forms as negative </a:t>
            </a:r>
            <a:r>
              <a:rPr b="1" i="1" lang="en-US" sz="4800" spc="-1" strike="noStrike">
                <a:solidFill>
                  <a:srgbClr val="ffffff"/>
                </a:solidFill>
                <a:latin typeface="Tahoma"/>
              </a:rPr>
              <a:t>tú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commands.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4"/>
          <p:cNvSpPr/>
          <p:nvPr/>
        </p:nvSpPr>
        <p:spPr>
          <a:xfrm>
            <a:off x="3962520" y="6019920"/>
            <a:ext cx="4419360" cy="0"/>
          </a:xfrm>
          <a:prstGeom prst="line">
            <a:avLst/>
          </a:prstGeom>
          <a:ln cap="sq" w="76320">
            <a:solidFill>
              <a:srgbClr val="ffff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a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i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erb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d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ierd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o pierdan Uds. los fósforo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3809880" y="5791320"/>
            <a:ext cx="4419720" cy="0"/>
          </a:xfrm>
          <a:prstGeom prst="line">
            <a:avLst/>
          </a:prstGeom>
          <a:ln cap="sq" w="76320">
            <a:solidFill>
              <a:srgbClr val="ffff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a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i="1" lang="en-US" sz="4400" spc="-1" strike="noStrike">
                <a:solidFill>
                  <a:srgbClr val="be7960"/>
                </a:solidFill>
                <a:latin typeface="Tahoma"/>
              </a:rPr>
              <a:t>-i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erbs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rvi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rv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ñorita, sirva la ensalada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Impact"/>
              </a:rPr>
              <a:t>Ud. and Uds. Commands</a:t>
            </a:r>
            <a:endParaRPr b="0" lang="en-US" sz="5400" spc="-1" strike="noStrike">
              <a:solidFill>
                <a:srgbClr val="dfd29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6000" y="1523880"/>
            <a:ext cx="88376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-gar (g to gu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legar - Negative tú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llegue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llegu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egative Uds. command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 llegue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01:00:05Z</dcterms:created>
  <dc:creator>Suzanne M. Shirley</dc:creator>
  <dc:description/>
  <dc:language>en-US</dc:language>
  <cp:lastModifiedBy>Local User</cp:lastModifiedBy>
  <dcterms:modified xsi:type="dcterms:W3CDTF">2009-10-26T18:10:32Z</dcterms:modified>
  <cp:revision>10</cp:revision>
  <dc:subject/>
  <dc:title>Nosotros Comman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81033</vt:lpwstr>
  </property>
</Properties>
</file>